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044E-AB69-4E20-8880-4A9764D53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34A7-DA64-489C-B440-ADF6F3FC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7FB0-3329-45EF-BFBA-7F98C9206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296B-B0FF-462A-B78C-60A8E2C2A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B6FA-12E4-463A-BE03-D1A57F801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FF4B-D7EB-4066-B6AD-7CBE66ED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4DD3-33A3-4F75-93D9-06528E04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E08BB-556C-49C8-9DE2-56A77F9D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A068A-B1C5-4284-A605-C557BDC4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25653-E32C-4310-BB1B-57EBFE59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0B6AD-D2DB-433B-8CAB-0BBD4CAB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1CA1-4F2D-4725-9A62-03A821FA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7AC5-A59D-4D4A-98AC-5F0BAFAF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3604-5408-406D-A614-EC78F8C2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7DDE-B118-417E-AE90-5D2744FE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ECCC-8DF5-4380-9981-21CAD74DD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9B3D4-BF32-44E7-AF7E-D0CB17A89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C5B0-ACF4-45A0-8CDE-DD63A568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0513-3185-4A85-8645-A0DD0AE3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B98F-679A-4DE0-B661-D7F48CEA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AFF7-68D2-4FA7-B245-020D0ABE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C01C-3D3D-42A9-BDE4-35C83456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9A38-BF75-4C01-B62A-52B76E1E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0074-A2B3-43B8-A14C-FD2E4B30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BBDF-2579-4E2D-A7C7-227D5644EBA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F23C-8492-4052-B31F-8312A02DCF9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Non-Fiction Feature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hotograp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2895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ws exactly what something looks lik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2FC9D0D6" descr=""/>
          <p:cNvPicPr/>
          <p:nvPr/>
        </p:nvPicPr>
        <p:blipFill>
          <a:blip r:embed="rId1"/>
          <a:srcRect l="0" t="8501" r="0" b="33412"/>
          <a:stretch/>
        </p:blipFill>
        <p:spPr>
          <a:xfrm>
            <a:off x="4114800" y="1905120"/>
            <a:ext cx="457200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source Li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oks or Web sites for more informatio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ually found in the back of the boo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188604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3EA949EA" descr=""/>
          <p:cNvPicPr/>
          <p:nvPr/>
        </p:nvPicPr>
        <p:blipFill>
          <a:blip r:embed="rId1"/>
          <a:srcRect l="0" t="6870" r="0" b="48627"/>
          <a:stretch/>
        </p:blipFill>
        <p:spPr>
          <a:xfrm>
            <a:off x="2895480" y="3581280"/>
            <a:ext cx="5372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352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ders events in the times in which they happen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234324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DCE54303" descr=""/>
          <p:cNvPicPr/>
          <p:nvPr/>
        </p:nvPicPr>
        <p:blipFill>
          <a:blip r:embed="rId1"/>
          <a:srcRect l="0" t="10638" r="25003" b="34419"/>
          <a:stretch/>
        </p:blipFill>
        <p:spPr>
          <a:xfrm>
            <a:off x="4191120" y="2057400"/>
            <a:ext cx="445752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2362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sts books and Internet sites used in the boo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214776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252FB709" descr=""/>
          <p:cNvPicPr/>
          <p:nvPr/>
        </p:nvPicPr>
        <p:blipFill>
          <a:blip r:embed="rId1"/>
          <a:srcRect l="0" t="0" r="0" b="48612"/>
          <a:stretch/>
        </p:blipFill>
        <p:spPr>
          <a:xfrm>
            <a:off x="3581280" y="1752480"/>
            <a:ext cx="48484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deb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743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xes of information to the side of the main tex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1604880" y="-6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FBAF7460" descr=""/>
          <p:cNvPicPr/>
          <p:nvPr/>
        </p:nvPicPr>
        <p:blipFill>
          <a:blip r:embed="rId1"/>
          <a:srcRect l="0" t="9805" r="0" b="20914"/>
          <a:stretch/>
        </p:blipFill>
        <p:spPr>
          <a:xfrm>
            <a:off x="3657600" y="2209680"/>
            <a:ext cx="49528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a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819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ganizes information in columns and rows so it is easier to understan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1604880" y="-5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F83169A" descr=""/>
          <p:cNvPicPr/>
          <p:nvPr/>
        </p:nvPicPr>
        <p:blipFill>
          <a:blip r:embed="rId1"/>
          <a:srcRect l="0" t="17707" r="0" b="6251"/>
          <a:stretch/>
        </p:blipFill>
        <p:spPr>
          <a:xfrm>
            <a:off x="3657600" y="1523880"/>
            <a:ext cx="48481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aris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28840" y="1828800"/>
            <a:ext cx="3352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ws the size of something you know next to something you don’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"/>
          <p:cNvSpPr/>
          <p:nvPr/>
        </p:nvSpPr>
        <p:spPr>
          <a:xfrm>
            <a:off x="2462040" y="-6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85E57AC" descr=""/>
          <p:cNvPicPr/>
          <p:nvPr/>
        </p:nvPicPr>
        <p:blipFill>
          <a:blip r:embed="rId1"/>
          <a:srcRect l="0" t="12039" r="0" b="19446"/>
          <a:stretch/>
        </p:blipFill>
        <p:spPr>
          <a:xfrm>
            <a:off x="1066680" y="1523880"/>
            <a:ext cx="3421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uta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moves part of the outside to show you the inside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1600200" y="-27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2172A9B8" descr=""/>
          <p:cNvPicPr/>
          <p:nvPr/>
        </p:nvPicPr>
        <p:blipFill>
          <a:blip r:embed="rId1"/>
          <a:srcRect l="0" t="0" r="0" b="47562"/>
          <a:stretch/>
        </p:blipFill>
        <p:spPr>
          <a:xfrm>
            <a:off x="2209680" y="2666880"/>
            <a:ext cx="5943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b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lains part of a pictu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-27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2172A9B8" descr=""/>
          <p:cNvPicPr/>
          <p:nvPr/>
        </p:nvPicPr>
        <p:blipFill>
          <a:blip r:embed="rId1"/>
          <a:srcRect l="0" t="52442" r="0" b="0"/>
          <a:stretch/>
        </p:blipFill>
        <p:spPr>
          <a:xfrm>
            <a:off x="1600200" y="2666880"/>
            <a:ext cx="594360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bels on an outline of an object explain parts of the whol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3" name="2172A9B8" descr=""/>
          <p:cNvPicPr/>
          <p:nvPr/>
        </p:nvPicPr>
        <p:blipFill>
          <a:blip r:embed="rId1"/>
          <a:srcRect l="0" t="52442" r="0" b="0"/>
          <a:stretch/>
        </p:blipFill>
        <p:spPr>
          <a:xfrm>
            <a:off x="1600200" y="2971800"/>
            <a:ext cx="594360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209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entence or two that explains a picture or phot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1604880" y="108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2FC9D0D6" descr=""/>
          <p:cNvPicPr/>
          <p:nvPr/>
        </p:nvPicPr>
        <p:blipFill>
          <a:blip r:embed="rId1"/>
          <a:srcRect l="0" t="8501" r="0" b="33412"/>
          <a:stretch/>
        </p:blipFill>
        <p:spPr>
          <a:xfrm>
            <a:off x="3886200" y="1905120"/>
            <a:ext cx="457200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s to True Boo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ganizational Keys – These nonfiction keys organize visual and informational keys into ways that help us locate informatio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example – an index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you name another exampl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s to True Boo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sual Keys – These nonfiction keys help us get more information with our eyes. They show us the inform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example – a photograp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you name another example? The list from the word find can help you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s to True Boo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formational Keys – These nonfiction keys help us get information through written facts. They tell us inform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example – chart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you name another exampl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ose-Up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ws detail of an objec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177624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6B4123E0" descr=""/>
          <p:cNvPicPr/>
          <p:nvPr/>
        </p:nvPicPr>
        <p:blipFill>
          <a:blip r:embed="rId1"/>
          <a:srcRect l="5779" t="49649" r="0" b="10637"/>
          <a:stretch/>
        </p:blipFill>
        <p:spPr>
          <a:xfrm>
            <a:off x="1981080" y="2971800"/>
            <a:ext cx="55911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ighlights what is importan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217656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659B4988" descr=""/>
          <p:cNvPicPr/>
          <p:nvPr/>
        </p:nvPicPr>
        <p:blipFill>
          <a:blip r:embed="rId1"/>
          <a:srcRect l="0" t="5682" r="0" b="19741"/>
          <a:stretch/>
        </p:blipFill>
        <p:spPr>
          <a:xfrm>
            <a:off x="3505320" y="2438280"/>
            <a:ext cx="4790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lains difficult words in a book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can be found in the back of a boo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1604880" y="-5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06208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741A327C" descr=""/>
          <p:cNvPicPr/>
          <p:nvPr/>
        </p:nvPicPr>
        <p:blipFill>
          <a:blip r:embed="rId1"/>
          <a:srcRect l="15410" t="0" r="0" b="61661"/>
          <a:stretch/>
        </p:blipFill>
        <p:spPr>
          <a:xfrm>
            <a:off x="2057400" y="3200400"/>
            <a:ext cx="50198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257800" y="1828800"/>
            <a:ext cx="3124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ws numerical information so comparisons can be mad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1604880" y="85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2FFE94EE" descr=""/>
          <p:cNvPicPr/>
          <p:nvPr/>
        </p:nvPicPr>
        <p:blipFill>
          <a:blip r:embed="rId1"/>
          <a:srcRect l="0" t="0" r="0" b="37503"/>
          <a:stretch/>
        </p:blipFill>
        <p:spPr>
          <a:xfrm>
            <a:off x="762120" y="1447920"/>
            <a:ext cx="4410000" cy="38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de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sts key words in the book and the pages on which they are foun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1604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7E812FBE" descr=""/>
          <p:cNvPicPr/>
          <p:nvPr/>
        </p:nvPicPr>
        <p:blipFill>
          <a:blip r:embed="rId1"/>
          <a:srcRect l="0" t="0" r="0" b="60238"/>
          <a:stretch/>
        </p:blipFill>
        <p:spPr>
          <a:xfrm>
            <a:off x="2438280" y="3352680"/>
            <a:ext cx="59342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lls the order of the topic in the boo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be found in the front of a boo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234324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FC312B54" descr=""/>
          <p:cNvPicPr/>
          <p:nvPr/>
        </p:nvPicPr>
        <p:blipFill>
          <a:blip r:embed="rId1"/>
          <a:srcRect l="0" t="8847" r="20409" b="51353"/>
          <a:stretch/>
        </p:blipFill>
        <p:spPr>
          <a:xfrm>
            <a:off x="2362320" y="3505320"/>
            <a:ext cx="445752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1752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lps you locate where things are in the worl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160488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2E813082" descr=""/>
          <p:cNvPicPr/>
          <p:nvPr/>
        </p:nvPicPr>
        <p:blipFill>
          <a:blip r:embed="rId1"/>
          <a:srcRect l="0" t="4252" r="0" b="46166"/>
          <a:stretch/>
        </p:blipFill>
        <p:spPr>
          <a:xfrm>
            <a:off x="2819520" y="1981080"/>
            <a:ext cx="59338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17:19:40Z</dcterms:created>
  <dc:creator>mom</dc:creator>
  <dc:description/>
  <dc:language>en-US</dc:language>
  <cp:lastModifiedBy>jglidden</cp:lastModifiedBy>
  <dcterms:modified xsi:type="dcterms:W3CDTF">2010-05-06T11:34:07Z</dcterms:modified>
  <cp:revision>23</cp:revision>
  <dc:subject/>
  <dc:title>Non-Fiction Features</dc:title>
</cp:coreProperties>
</file>